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jeop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1FE8-BF9F-40A2-9BDE-7593B190A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51A5-AF68-4344-8C42-F8D2D5B7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B15F-5506-4B46-AE05-479782E7A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3C5C-EC6B-45C9-8E2D-1FBBD7D6C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F5ED-8863-491A-8B16-C9222B0F5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83CD-0972-4E10-BF1B-B62B594F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8973-5F9A-4ECC-8732-817B4FBF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062FE-453E-4AE3-8921-6D4D87D6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799C-116C-4DE6-99BB-15FA043E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C3CE-0B83-434E-BA74-438B2882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2E6A-63C8-4BA9-A440-C9E83535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FE78-8C1A-4BD2-A99D-3C4E6FEE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77BA-EA15-4C1C-AE48-44AE088D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ABE3-85E1-40B2-9C1A-FFAA4F2F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384A-8938-4463-AB7A-E4DF5470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A69D-D5DB-4F12-92F4-EE3F1DE19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745E-EE5B-4EA2-817B-8248CA932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B2F4-8C55-4162-9ABA-FFFACC76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01C0-2583-4DE0-A94E-7F59346F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6936-FD03-4850-B319-36694A98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2700-FCD1-4737-A83B-73FAA355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7A29-7696-4493-8011-72C65BDA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654A-C372-4B8A-9BC9-67749E21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8C1B-A5F8-4B23-9531-92C7DCBF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68ae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8ae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68ae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68ae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000" spc="-1" strike="noStrike">
                    <a:solidFill>
                      <a:srgbClr val="0068ae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000" spc="-1" strike="noStrike">
                    <a:solidFill>
                      <a:srgbClr val="0068ae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0207-531C-4805-A439-43F6C8A714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8ae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8ae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68ae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68ae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000" spc="-1" strike="noStrike">
                    <a:solidFill>
                      <a:srgbClr val="0068ae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000" spc="-1" strike="noStrike">
                    <a:solidFill>
                      <a:srgbClr val="0068ae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90CC-EBF9-410D-87B0-FCFC0A9C8F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00200" y="320400"/>
            <a:ext cx="7758000" cy="99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fe1ff"/>
                </a:solidFill>
                <a:latin typeface="Arial"/>
              </a:rPr>
              <a:t>Jeopardy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2" name="Object 3"/>
          <p:cNvGraphicFramePr/>
          <p:nvPr/>
        </p:nvGraphicFramePr>
        <p:xfrm>
          <a:off x="533520" y="167652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Text Box 5"/>
          <p:cNvSpPr/>
          <p:nvPr/>
        </p:nvSpPr>
        <p:spPr>
          <a:xfrm>
            <a:off x="2362320" y="175248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8ae"/>
                </a:solidFill>
                <a:latin typeface="Times New Roman"/>
              </a:rPr>
              <a:t>True or False?</a:t>
            </a:r>
            <a:endParaRPr b="0" lang="en-US" sz="20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581280" y="1905120"/>
            <a:ext cx="252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8ae"/>
                </a:solidFill>
                <a:latin typeface="Times New Roman"/>
              </a:rPr>
              <a:t>Whic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68ae"/>
                </a:solidFill>
                <a:latin typeface="Times New Roman"/>
              </a:rPr>
              <a:t>wor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68ae"/>
                </a:solidFill>
                <a:latin typeface="Times New Roman"/>
              </a:rPr>
              <a:t>is right?</a:t>
            </a:r>
            <a:endParaRPr b="0" lang="en-US" sz="1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5393880" y="180180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8ae"/>
                </a:solidFill>
                <a:latin typeface="Times New Roman"/>
              </a:rPr>
              <a:t>Spelling</a:t>
            </a:r>
            <a:endParaRPr b="0" lang="en-US" sz="20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6704280" y="1752480"/>
            <a:ext cx="14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8ae"/>
                </a:solidFill>
                <a:latin typeface="Times New Roman"/>
              </a:rPr>
              <a:t>Th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68ae"/>
                </a:solidFill>
                <a:latin typeface="Times New Roman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68ae"/>
                </a:solidFill>
                <a:latin typeface="Times New Roman"/>
              </a:rPr>
              <a:t>that?</a:t>
            </a:r>
            <a:endParaRPr b="0" lang="en-US" sz="20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2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2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2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2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2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2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3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3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3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3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3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3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3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3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3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3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4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4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4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43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44" name="Text Box 48"/>
          <p:cNvSpPr/>
          <p:nvPr/>
        </p:nvSpPr>
        <p:spPr>
          <a:xfrm>
            <a:off x="914400" y="1676520"/>
            <a:ext cx="1219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45" name="Text Box 49"/>
          <p:cNvSpPr/>
          <p:nvPr/>
        </p:nvSpPr>
        <p:spPr>
          <a:xfrm>
            <a:off x="914400" y="1828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Definitio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500 Question from defini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4"/>
          <p:cNvSpPr/>
          <p:nvPr/>
        </p:nvSpPr>
        <p:spPr>
          <a:xfrm>
            <a:off x="1893960" y="3168720"/>
            <a:ext cx="55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es coup d etat mean?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500 Answer from defini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4"/>
          <p:cNvSpPr/>
          <p:nvPr/>
        </p:nvSpPr>
        <p:spPr>
          <a:xfrm>
            <a:off x="1892520" y="3168720"/>
            <a:ext cx="575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sudden decisive exercise of 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uthority in politics.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$100 Question from True or fals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4"/>
          <p:cNvSpPr/>
          <p:nvPr/>
        </p:nvSpPr>
        <p:spPr>
          <a:xfrm>
            <a:off x="1901520" y="316872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ast tense of lead is leaded?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100 Answer from True or fal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4"/>
          <p:cNvSpPr/>
          <p:nvPr/>
        </p:nvSpPr>
        <p:spPr>
          <a:xfrm>
            <a:off x="3892680" y="1676520"/>
            <a:ext cx="114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d 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$200 Question from True or fals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4"/>
          <p:cNvSpPr/>
          <p:nvPr/>
        </p:nvSpPr>
        <p:spPr>
          <a:xfrm>
            <a:off x="1878840" y="316872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 can’t use nor with neither. 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200 Answer from True or fal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4"/>
          <p:cNvSpPr/>
          <p:nvPr/>
        </p:nvSpPr>
        <p:spPr>
          <a:xfrm>
            <a:off x="3884400" y="1828800"/>
            <a:ext cx="10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rue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$300 Question from True or fals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4"/>
          <p:cNvSpPr/>
          <p:nvPr/>
        </p:nvSpPr>
        <p:spPr>
          <a:xfrm>
            <a:off x="1763640" y="1981080"/>
            <a:ext cx="581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potter’s field is a public place for unknown 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ople and for families. 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300 Answer from True or fal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4"/>
          <p:cNvSpPr/>
          <p:nvPr/>
        </p:nvSpPr>
        <p:spPr>
          <a:xfrm>
            <a:off x="4045320" y="1752480"/>
            <a:ext cx="10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$400 Question from True or fals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4"/>
          <p:cNvSpPr/>
          <p:nvPr/>
        </p:nvSpPr>
        <p:spPr>
          <a:xfrm>
            <a:off x="1915920" y="3168720"/>
            <a:ext cx="656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Rochester, Minnesota, the male 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yo clinic is a hospital.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400 Answer from True or fal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4"/>
          <p:cNvSpPr/>
          <p:nvPr/>
        </p:nvSpPr>
        <p:spPr>
          <a:xfrm>
            <a:off x="4120920" y="182880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rue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100 Question from definition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5"/>
          <p:cNvSpPr/>
          <p:nvPr/>
        </p:nvSpPr>
        <p:spPr>
          <a:xfrm>
            <a:off x="1893240" y="3168720"/>
            <a:ext cx="430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palindrome?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$500 Question from True or fals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4"/>
          <p:cNvSpPr/>
          <p:nvPr/>
        </p:nvSpPr>
        <p:spPr>
          <a:xfrm>
            <a:off x="1924560" y="3168720"/>
            <a:ext cx="644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erogative means a special right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 privilege because of age, class,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children.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500 Answer from True or fal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4"/>
          <p:cNvSpPr/>
          <p:nvPr/>
        </p:nvSpPr>
        <p:spPr>
          <a:xfrm>
            <a:off x="1921680" y="3168720"/>
            <a:ext cx="577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lse.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ildren is not correct it could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 rank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$100 Question from which word is right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4"/>
          <p:cNvSpPr/>
          <p:nvPr/>
        </p:nvSpPr>
        <p:spPr>
          <a:xfrm>
            <a:off x="1889280" y="3168720"/>
            <a:ext cx="6165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pink shirt _____ his maroon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weater. 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Complement                                 - compliment 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$100 Answer from which word is right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4"/>
          <p:cNvSpPr/>
          <p:nvPr/>
        </p:nvSpPr>
        <p:spPr>
          <a:xfrm>
            <a:off x="3355920" y="2514600"/>
            <a:ext cx="25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pliment 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$200 Question from which word is right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4"/>
          <p:cNvSpPr/>
          <p:nvPr/>
        </p:nvSpPr>
        <p:spPr>
          <a:xfrm>
            <a:off x="1887840" y="3317760"/>
            <a:ext cx="533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have way ____ many dogs in my house. 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To                     -too                     - two 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$200 Answer from which word is right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4"/>
          <p:cNvSpPr/>
          <p:nvPr/>
        </p:nvSpPr>
        <p:spPr>
          <a:xfrm>
            <a:off x="4345200" y="213372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o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$300 Question from which word is right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2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"/>
          <p:cNvSpPr/>
          <p:nvPr/>
        </p:nvSpPr>
        <p:spPr>
          <a:xfrm>
            <a:off x="2819520" y="2209680"/>
            <a:ext cx="31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____ this gift.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accept     - except  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$300 Answer from which word is right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2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4"/>
          <p:cNvSpPr/>
          <p:nvPr/>
        </p:nvSpPr>
        <p:spPr>
          <a:xfrm>
            <a:off x="3886920" y="228600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ept 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$400 Question from which word is right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2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4"/>
          <p:cNvSpPr/>
          <p:nvPr/>
        </p:nvSpPr>
        <p:spPr>
          <a:xfrm>
            <a:off x="1923120" y="3168720"/>
            <a:ext cx="6528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fore we ____ with class, I must 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ake attendance.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 Precede               - Proceed  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$400 Answer from which word is right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2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4"/>
          <p:cNvSpPr/>
          <p:nvPr/>
        </p:nvSpPr>
        <p:spPr>
          <a:xfrm>
            <a:off x="3591360" y="2666880"/>
            <a:ext cx="17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ceed 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100 Answer from defini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4"/>
          <p:cNvSpPr/>
          <p:nvPr/>
        </p:nvSpPr>
        <p:spPr>
          <a:xfrm>
            <a:off x="685800" y="182880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palindrome is a word, number, verse, or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ntence that reads the same forward or backward. 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$500 Question from which word is right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4"/>
          <p:cNvSpPr/>
          <p:nvPr/>
        </p:nvSpPr>
        <p:spPr>
          <a:xfrm>
            <a:off x="1910880" y="3168720"/>
            <a:ext cx="480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______ has a round dome on top.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ital                           -Capitol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$500 Answer from which word is right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4"/>
          <p:cNvSpPr/>
          <p:nvPr/>
        </p:nvSpPr>
        <p:spPr>
          <a:xfrm>
            <a:off x="3972240" y="2286000"/>
            <a:ext cx="152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ol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100 Question from spell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4"/>
          <p:cNvSpPr/>
          <p:nvPr/>
        </p:nvSpPr>
        <p:spPr>
          <a:xfrm>
            <a:off x="1910880" y="3168720"/>
            <a:ext cx="421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o you spell …..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100 Answer from spell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4"/>
          <p:cNvSpPr/>
          <p:nvPr/>
        </p:nvSpPr>
        <p:spPr>
          <a:xfrm>
            <a:off x="3583440" y="175248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ready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200 Question from spell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4"/>
          <p:cNvSpPr/>
          <p:nvPr/>
        </p:nvSpPr>
        <p:spPr>
          <a:xfrm>
            <a:off x="1909080" y="3168720"/>
            <a:ext cx="38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o you spell…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200 Answer from spell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300 Question from spell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4"/>
          <p:cNvSpPr/>
          <p:nvPr/>
        </p:nvSpPr>
        <p:spPr>
          <a:xfrm>
            <a:off x="1909080" y="3168720"/>
            <a:ext cx="38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o you spell…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300 Answer from spell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400 Question from spell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4"/>
          <p:cNvSpPr/>
          <p:nvPr/>
        </p:nvSpPr>
        <p:spPr>
          <a:xfrm>
            <a:off x="1909080" y="3168720"/>
            <a:ext cx="38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o you spell…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400 Answer from spell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200 Question from defini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4"/>
          <p:cNvSpPr/>
          <p:nvPr/>
        </p:nvSpPr>
        <p:spPr>
          <a:xfrm>
            <a:off x="2362320" y="21337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 word means fashionable, stylish, topped with ice cream?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500 Question from spell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4"/>
          <p:cNvSpPr/>
          <p:nvPr/>
        </p:nvSpPr>
        <p:spPr>
          <a:xfrm>
            <a:off x="1911600" y="3168720"/>
            <a:ext cx="43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o you spell……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500 Answer from spell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100 Question from this or tha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4"/>
          <p:cNvSpPr/>
          <p:nvPr/>
        </p:nvSpPr>
        <p:spPr>
          <a:xfrm>
            <a:off x="1923840" y="3168720"/>
            <a:ext cx="708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it..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acts like he doesn’t feel well.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acts like he doesn’t feel good. 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100 Answer from this or tha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7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4"/>
          <p:cNvSpPr/>
          <p:nvPr/>
        </p:nvSpPr>
        <p:spPr>
          <a:xfrm>
            <a:off x="1922400" y="3168720"/>
            <a:ext cx="675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He acts like he doesn’t feel well.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200 Question from this or tha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7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4"/>
          <p:cNvSpPr/>
          <p:nvPr/>
        </p:nvSpPr>
        <p:spPr>
          <a:xfrm>
            <a:off x="1708920" y="1676520"/>
            <a:ext cx="573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class members did all the 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corating _____.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it..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mselfs 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mselves 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sself 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200 Answer from this or tha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7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4"/>
          <p:cNvSpPr/>
          <p:nvPr/>
        </p:nvSpPr>
        <p:spPr>
          <a:xfrm>
            <a:off x="2679840" y="1905120"/>
            <a:ext cx="304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- Themselves 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300 Question from this or tha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4"/>
          <p:cNvSpPr/>
          <p:nvPr/>
        </p:nvSpPr>
        <p:spPr>
          <a:xfrm>
            <a:off x="1908000" y="3168720"/>
            <a:ext cx="3199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it.. 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t me be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ave me be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300 Answer from this or tha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4"/>
          <p:cNvSpPr/>
          <p:nvPr/>
        </p:nvSpPr>
        <p:spPr>
          <a:xfrm>
            <a:off x="2988720" y="2286000"/>
            <a:ext cx="293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- leave me be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400 Question from this or tha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4"/>
          <p:cNvSpPr/>
          <p:nvPr/>
        </p:nvSpPr>
        <p:spPr>
          <a:xfrm>
            <a:off x="1897560" y="3168720"/>
            <a:ext cx="230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tells when?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n 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400 Answer from this or tha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4"/>
          <p:cNvSpPr/>
          <p:nvPr/>
        </p:nvSpPr>
        <p:spPr>
          <a:xfrm>
            <a:off x="1899000" y="3168720"/>
            <a:ext cx="16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- then 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200 Answer from defini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4"/>
          <p:cNvSpPr/>
          <p:nvPr/>
        </p:nvSpPr>
        <p:spPr>
          <a:xfrm>
            <a:off x="3431520" y="2209680"/>
            <a:ext cx="208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la mode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500 Question from this or tha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9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4"/>
          <p:cNvSpPr/>
          <p:nvPr/>
        </p:nvSpPr>
        <p:spPr>
          <a:xfrm>
            <a:off x="1901880" y="3168720"/>
            <a:ext cx="367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alking about heath?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ck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ll 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500 Answer from this or tha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9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4"/>
          <p:cNvSpPr/>
          <p:nvPr/>
        </p:nvSpPr>
        <p:spPr>
          <a:xfrm>
            <a:off x="3438360" y="1981080"/>
            <a:ext cx="15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- well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Final Jeopard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309960" y="2438280"/>
            <a:ext cx="861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uthor wrote, “If one man kills another,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 murder, but if a hundred thousand men kill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other hundred thousand, it is considered an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t of glory!?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8ae"/>
              </a:solidFill>
              <a:latin typeface="Times New Roman"/>
            </a:endParaRPr>
          </a:p>
        </p:txBody>
      </p:sp>
      <p:pic>
        <p:nvPicPr>
          <p:cNvPr id="399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" descr="m_button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" fill="hold"/>
                                        <p:tgtEl>
                                          <p:spTgt spid="3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Final Jeopardy Answer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1505520" y="2766960"/>
            <a:ext cx="419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Tolstoy?</a:t>
            </a:r>
            <a:endParaRPr b="0" lang="en-US" sz="44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The book is </a:t>
            </a:r>
            <a:endParaRPr b="0" lang="en-US" sz="4400" spc="-1" strike="noStrike">
              <a:solidFill>
                <a:srgbClr val="0068a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ngdom of God)</a:t>
            </a:r>
            <a:endParaRPr b="0" lang="en-US" sz="4400" spc="-1" strike="noStrike">
              <a:solidFill>
                <a:srgbClr val="0068ae"/>
              </a:solidFill>
              <a:latin typeface="Times New Roman"/>
            </a:endParaRPr>
          </a:p>
        </p:txBody>
      </p:sp>
      <p:pic>
        <p:nvPicPr>
          <p:cNvPr id="403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300 Question from defini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4"/>
          <p:cNvSpPr/>
          <p:nvPr/>
        </p:nvSpPr>
        <p:spPr>
          <a:xfrm>
            <a:off x="1893240" y="3168720"/>
            <a:ext cx="51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es Escargot mean?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300 Answer from defini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4"/>
          <p:cNvSpPr/>
          <p:nvPr/>
        </p:nvSpPr>
        <p:spPr>
          <a:xfrm>
            <a:off x="1679040" y="3200400"/>
            <a:ext cx="487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snail prepared as food. 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400 Question from defini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1585440" y="3124080"/>
            <a:ext cx="590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at word means to have a thick slice of beef cut from </a:t>
            </a:r>
            <a:endParaRPr b="0" lang="en-US" sz="2000" spc="-1" strike="noStrike">
              <a:solidFill>
                <a:srgbClr val="0068ae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narrow end of a tenderloin?</a:t>
            </a:r>
            <a:endParaRPr b="0" lang="en-US" sz="2000" spc="-1" strike="noStrike">
              <a:solidFill>
                <a:srgbClr val="0068ae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400 Answer from defini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4"/>
          <p:cNvSpPr/>
          <p:nvPr/>
        </p:nvSpPr>
        <p:spPr>
          <a:xfrm>
            <a:off x="425304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8ae"/>
              </a:solidFill>
              <a:latin typeface="Times New Roman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2895480" y="27432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let mignon</a:t>
            </a:r>
            <a:endParaRPr b="0" lang="en-US" sz="3600" spc="-1" strike="noStrike">
              <a:solidFill>
                <a:srgbClr val="0068ae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213050</cp:lastModifiedBy>
  <dcterms:modified xsi:type="dcterms:W3CDTF">2010-05-19T18:47:12Z</dcterms:modified>
  <cp:revision>22</cp:revision>
  <dc:subject/>
  <dc:title>Jeopardy</dc:title>
</cp:coreProperties>
</file>